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19C-E25A-4AD0-B451-248D80A8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97B-959B-4530-9E9C-308718B3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516E7-67B5-4570-9096-74BE5FAA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0A44B-0F1F-4FFF-9164-939F46DB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967D3-81A2-4805-9FC9-65330AD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04635-736F-4C82-AEC6-D29AE7D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C25C4-39EC-4D80-B0D0-E39429E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D2405-80EF-40A7-A540-BA70913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45081-CDD6-4B00-BECE-B7720679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3A6EF-23B4-4463-8578-A4207C3D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07766-B5E9-47C0-B27A-B8F8C934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86965-C6DD-4C1D-B5CC-E8AE4138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705-10FA-49B8-80DD-6FB3B995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106EE-18D1-4C13-9D57-97A0C2EB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797E6-8594-4F4A-BBAF-178AAFD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50FA3-362C-4E1B-B9CA-C65603E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414AA-58AC-4E5A-A2E8-246D72B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3577C-0FB9-4B10-86FF-B8429017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A61D3-5346-4453-A019-7F2C565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AA284-1577-4B05-9C20-EE78B71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68922-8F07-48C1-A9B2-95299B8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2FE29-4272-4987-8309-02E6381B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3CBA3-40E9-4383-8AB8-F473A4FD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EE2-9C27-4A6D-906C-C490AF1C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0E143-6A00-4333-A9DF-1995C444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7859D-A7FC-4BB5-899E-489B7E8F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A752B-1685-4F38-B5C4-904FBED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4F3F-43A8-452F-AE55-D80849B2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814CA-A5A1-45A1-A60A-AA20566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54368-835D-456E-BB2C-88BA1BA4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7658-0F8A-4510-9CC1-B6FD4C41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6E6F0-91B4-4F9D-BED4-2C3F3805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13C23-E80F-4817-94D8-C2877AC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7219B-3CD9-441F-9BF0-9062A2C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D78-5BDE-490C-8AB4-747ADDC7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F4E49-770A-4C18-829C-CF4410E1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67E6-CDFB-49F8-BF76-044AEA1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B7D7-3F9C-47BB-BD9E-36B8F8EA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F0906-2906-43EA-82BC-A65075B9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609A9-0B59-4D1A-8680-908F908A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BCF4A-F1EE-404D-AA20-C2DF226A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3801F-E284-41AA-A1E0-C6823EF4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CCB6F-48B0-4263-96BB-FD2CA7F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BA000-BA9D-4EB2-AB76-93B35B4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6160F-1D44-4CAE-88BF-26CD543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42E2-F97F-4143-82DD-76031920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7CBAC-B141-4107-88D5-5C3700AB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F0BCF-B35E-459F-BA27-0AE83BA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D2BC7-A787-4A66-9E20-41D362B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8C084-4A92-445F-9024-835F4931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BE5DA-1C26-48C8-BB69-529348FB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8D78-0F94-4784-8A56-B851C24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B28-8EC1-4DDD-8456-878B403E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8FC6-521E-42CA-9D52-D646558C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BF0-44CE-4026-92D9-F3DBF3F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08D5-FD07-4C43-8C88-5DF1F57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9E9-FCF7-4FE8-B742-8D66725D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7B30-73DF-4FCF-B640-5910332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8C4-8F63-4603-BFB8-4F9270A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84A-ACE2-4DC6-AEB6-83460BE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A43-1C8C-48E1-9F8D-D679A840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B23E-A914-4E5C-8B0F-4D5EF947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1657-7EB6-4671-8420-4C6FEA6D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CE1D-5F7A-439A-AED2-1AB51D2E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75CE-368C-45D4-AF0C-B82628F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C896-AD72-4361-81E5-40A7287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6311-B64A-463A-8233-0E38B01F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1F9-2C2D-43E2-95E0-9955E6E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866E-759D-4458-93CD-50F6B540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0476-2E0A-4847-AF65-736AC4A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B893-08C8-49AC-AAE9-5FE5538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D1D5-674D-4EB5-B842-0EDE48D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9D38-2699-456A-9957-B17046CF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3D5B-E3A1-488B-A4EA-A47F4FBF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8EB9-D48F-44F8-AD8D-5226B5E8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2321-0153-4D1F-B2F3-669994D3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0AFF-FA34-4162-A391-127CD06D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E917-CB74-46F7-BEE7-CC2E242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918-176A-451D-B5E2-C7373CD4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04FA-E91E-4473-B089-5F43CAB8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B376-BAC5-457F-80CE-65F70B5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8095-6557-4C53-A7DD-37DC8E8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90EB-23CB-4E12-9E9B-7923D73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D3E0-096C-416D-B851-3753950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4775-4B42-4995-A907-54F5282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21F3-CED5-4926-91C8-67312311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CEE9-258E-4F22-8724-FA6856C8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B315-FEB8-4753-AF21-CFE9D3C4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7702-F364-4DAB-88EB-3BDCCC32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133-0765-4794-AD10-876C37C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9792-62FD-44EA-8372-E0C11F9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2730-2586-491E-8ABC-E55C12D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B9F2-6314-4BB1-9274-306ECDFB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AD2E-A13E-4DCF-9FE8-B00B0B6A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4780-BA2E-48E2-BD05-57FB833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98CF-8A73-4381-8483-A8ACD99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D11C-3A3E-477C-90E2-8B0F924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2F95-8397-4D3C-A744-6059821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AE7F-E10F-4B37-9D4B-13A20286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3411E-2FA1-4A79-891D-033095F9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36F-3651-42A3-AA98-6CBBAB0C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9956-1DF3-4D0A-8455-BFEB80EA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FD489-F84D-4E2A-BF88-50C86201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7588-DEB3-4507-B585-AA88247C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A2CAB-C5CD-42DD-8659-D4FA9247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84E8E-43EA-4B4B-A2FB-E390C58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F443-981C-45C5-AADF-B5CBAC1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FB21-73CC-476F-B743-3470C9B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E197-98E6-4107-8F7A-B41C6FA9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B54D-5105-44E8-882E-F5FBED4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9DB6-FAC9-4347-B6CF-BE89CDF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0A3-97F8-4FD3-994F-F6E035AC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FDBBE-7BC6-48B7-A90E-9438C2D1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790D4-7A5E-434D-B526-F791A96E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A3A7-F7FF-4A83-A270-A229ABF3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6176-7D74-4FCD-AF4D-B07D55FE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3CE34-0A6D-482A-B141-FB7CFA48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6187F-3C50-4A68-B08C-71B469D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0221-BC7A-4588-B9CB-27619B2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CABD-F9CC-406E-B00F-4D8B26F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0E13-1DF6-470E-97F3-B1425FF2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E7B1B-0A3A-4D88-AEA3-D6F5C3F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D73-6B7F-4A3D-A9ED-892FD8C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3C25-9E98-4B3D-95F9-122F6AB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CF9F-AA89-4C9B-B281-7B55F006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39C6-8C13-423E-9351-AFC352B6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6C25-603A-4B31-8CC1-A7912A2D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B254-3360-4325-A6ED-126DF2FA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3E341-D68E-41B0-BB73-B019EA02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1D592-D451-4FDA-9C7B-0401DE3D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CFE7A-2134-46F5-9286-2000463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70B23-07A6-4BFC-92A0-A01CC64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E36AF-535E-4255-95DB-B3A9251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75A-C42A-4040-9FB8-827A6B60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0E978-0B4C-4319-90DF-D6CFC8D7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09919-7869-434F-A9D9-2F12DBF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0BFD-E4EC-4671-B90E-1A8FE9F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A675C-F7B5-436A-9B6A-7D3C86C4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CCC0-D937-4F95-9E8C-30A596D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083F-99A4-4C3B-8CD5-A6721B30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9157A-A7FD-450E-853D-7642D3E0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76E5D-D2E4-4C19-8B4B-104568A7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9AE29-BA31-4DAC-A513-F2C9740D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DB286-F160-45FE-AF07-20C9946C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210-F754-4D58-B2B1-30D5CBFF65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F53-467E-4E5D-A35F-AC538B03BA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A58-AAC3-4258-B131-89379555DC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0E7-1BFD-4ADA-A61E-29176BD7CA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6A4-8710-4729-8C52-15158E2874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753-D770-4E1D-A743-56EF791E4C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EA75-B597-4420-8D7C-6C3A7609F5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9567-DCCB-4D48-9A23-2124FC7DEE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47E-F5F0-4727-84B1-45C7AC74F0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5CC-D407-4804-9BC9-5D6AFEED9B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8A65-35BC-4B84-AF3C-AEE0BE8788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F21-62E3-4733-9267-39EB6E840A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 Teba, Bože, chvá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26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, Bože, chváli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tak hriešne, biedne plemä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ou sa korí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ývame ťa z prachu z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večnosti ty s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 Tvorca, Vládca,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, Otče, obeť chv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ti z vďaky prináš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svojho Syna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torom večnú spásu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si Ducha Svät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iteľa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jeli ťa v nebes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estajne oslavu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e meno veleb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o všetko vyvyšu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je podnož tvojich nô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 Boh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7:52:01Z</dcterms:modified>
  <cp:revision>10</cp:revision>
  <dc:subject/>
  <dc:title>Je veľký náš Pán, on slávy je Kráľ Nech do všetkých strán  spev vrúcnych znie chvál.</dc:title>
</cp:coreProperties>
</file>